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813E-0F7F-4057-B028-8B39626F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D4EE-CA56-4497-8962-3B2BE325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A3D1-672F-40D8-8BB5-7C35C454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AED9-A864-4AA1-A6B9-EF27C850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8307-0A2B-46D8-A0CB-7450FDC8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BDB6-9AB1-439C-BC0E-BB07DD1F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DE1C-F1E8-403C-800C-74A07CBF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666A-5E14-4EA7-9A20-EA3243D8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CFFE-8AB7-4AB0-8E9D-A4185442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D594-FEEF-449D-A857-85186280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BE31-EF3C-48A2-9B4F-00A5AA73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5B6-8B21-4194-8E7D-04C98B0C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6F3C-0684-400C-AA51-D234A430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3368-5BB3-48A2-8502-3D7B1B98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8E91-1BA6-4804-B0B3-4ACB7E7B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D05C-F26E-4141-9623-C9BEC881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FB96-F08F-456E-841D-151959E1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8736-C8C1-47FB-9629-41B3FAEA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B5BA-424F-4CD0-8786-9DC29F15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A168-F011-47AC-845F-6E5D5276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15C-4E6F-4454-BA93-3ED3263A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735E-B489-42A0-9C06-7A6B421A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CC8-1637-4CEA-9B88-08B06368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4B5-EA57-44DF-9408-470BF095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6F5D-6A2D-4E28-B6F1-BE402C46CF1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2595-C17B-4FE9-A96F-682847E14EB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user/My%20Documents/Teaching%20wrokshop%20research%20Al%20Bayan/Al%20Bayan%20research%20Gantt.do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5000"/>
            </a:b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: The Nature of Research: Learning from other people’s resear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earch               Structure of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s                  the resear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b6b75"/>
                </a:solidFill>
                <a:latin typeface="Arial"/>
              </a:rPr>
              <a:t>Data collection: desk research for secondary da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b6b75"/>
                </a:solidFill>
                <a:latin typeface="Arial"/>
              </a:rPr>
              <a:t>Data collection: surveys/interviews for primary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b6b75"/>
                </a:solidFill>
                <a:latin typeface="Arial"/>
              </a:rPr>
              <a:t>Design questionna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Categoriz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Analyzing/interpreting data (E.g. SPSS program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wri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b6b75"/>
                </a:solidFill>
                <a:latin typeface="Arial"/>
              </a:rPr>
              <a:t>Findings (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Discussion (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 (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erences (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bliography (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ding a research paper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fferent broad way to classify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d vs. Ba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ure of the research pa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tical review of the  research pap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 you remember types of research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some types of resear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some methods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ature of qualitative and quantit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fferent way to classify research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urali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 Ethnographi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ood vs. Bad research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researches ai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xp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vestigate a new knowledg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Replication research: validate (maybe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scale) or in different circum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Adaptation research: validate or invalidate prev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ood vs. Bad research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d resear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 knowledge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just a re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cture of the research paper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le 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tract (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nt (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 (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terature review (Record keeping)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ology (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ings (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 (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cture of the research paper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ion (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ences (1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bliography (1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earch               Structure of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s                  the resear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00"/>
                </a:solidFill>
                <a:latin typeface="Arial"/>
              </a:rPr>
              <a:t>Topic/iss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00"/>
                </a:solidFill>
                <a:latin typeface="Arial"/>
              </a:rPr>
              <a:t>Research question/statements/assumption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Conceptual frame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cad1"/>
                </a:solidFill>
                <a:latin typeface="Arial"/>
              </a:rPr>
              <a:t>Methodolo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rame (E.g. 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Gant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Title (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(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nt (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tion (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Literature review (Record keeping)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cad1"/>
                </a:solidFill>
                <a:latin typeface="Arial"/>
              </a:rPr>
              <a:t>Methodology (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26:51Z</dcterms:created>
  <dc:creator>user</dc:creator>
  <dc:description/>
  <dc:language>en-US</dc:language>
  <cp:lastModifiedBy>Lorenza Innocenti</cp:lastModifiedBy>
  <dcterms:modified xsi:type="dcterms:W3CDTF">2008-05-25T08:02:06Z</dcterms:modified>
  <cp:revision>11</cp:revision>
  <dc:subject/>
  <dc:title>Course: Fundamentals of Research</dc:title>
</cp:coreProperties>
</file>